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C41-CAC4-48F3-8A24-4F4F93EF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B6A-6D53-423D-BC82-9FADE19D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A7B-CFD1-4100-838A-36949156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859-CE42-4819-91A0-07EAF555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98F-D164-4BFF-85F4-5C611D5E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04F-5B65-438C-8112-F84BDF7E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B8A-4497-4397-9698-3007AC5F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369-55F4-4819-AF06-E8D76119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A5A-3C5B-4AAC-A667-81FFADE1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00C-0F44-47A2-B56C-BD686FF4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F92-61E7-4392-9938-F82DD9F3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0A4-E529-4D13-A4CD-5E39D3C5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D1C4-2FAC-4EC8-8CD6-1AFAA86E9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thecinemasource.com/moviesdb/images/guy_pearce_6.jpg&amp;imgrefurl=http://www.thecinemasource.com/celebrity/interviews/Guy-Pearce-Factory-Guy-interview-441-0.html&amp;h=422&amp;w=300&amp;sz=52&amp;tbnid=cZ66GAFUySYJ::&amp;tbnh=126&amp;tbnw=90&amp;prev=/images%3Fq%3DGuy%2BPearce%2Bpics&amp;hl=en&amp;sa=X&amp;oi=image_result&amp;resnum=1&amp;ct=image&amp;cd=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.au/imgres?imgurl=http://jksays.files.wordpress.com/2007/09/jack_thompson_attorney.jpg&amp;imgrefurl=http://jksays.wordpress.com/2007/09/19/jack-thompson-biggest-idiot-ever/&amp;h=240&amp;w=352&amp;sz=32&amp;tbnid=kyF3xTWUSBIJ::&amp;tbnh=82&amp;tbnw=120&amp;prev=/images%3Fq%3DJack%2BThompson%2Bpics&amp;hl=en&amp;sa=X&amp;oi=image_result&amp;resnum=2&amp;ct=image&amp;cd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oogle.com.au/imgres?imgurl=http://www.movieactors.com/photos703/gibson177.jpeg&amp;imgrefurl=http://www.movieactors.com/80stars/mel.htm&amp;h=398&amp;w=396&amp;sz=17&amp;tbnid=BjdMIsuFgloJ::&amp;tbnh=124&amp;tbnw=123&amp;prev=/images%3Fq%3DMel%2BGibson%2Bpics&amp;hl=en&amp;sa=X&amp;oi=image_result&amp;resnum=2&amp;ct=image&amp;cd=1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google.com.au/imgres?imgurl=http://www.abc.net.au/tasmania/stories/Sigrid_Tho_m793464.jpg&amp;imgrefurl=http://www.abc.net.au/tasmania/stories/s1006578.htm&amp;h=461&amp;w=300&amp;sz=19&amp;tbnid=X6Z8eFydnUkJ::&amp;tbnh=128&amp;tbnw=83&amp;prev=/images%3Fq%3DSigrid%2BThornton%2Bpics&amp;hl=en&amp;sa=X&amp;oi=image_result&amp;resnum=1&amp;ct=image&amp;cd=1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26028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a8f4f6"/>
                    </a:gs>
                    <a:gs pos="100000">
                      <a:srgbClr val="3333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rnie Ding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50000">
                    <a:srgbClr val="a8f4f6"/>
                  </a:gs>
                  <a:gs pos="100000">
                    <a:srgbClr val="3333ff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66247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95640" y="476280"/>
            <a:ext cx="489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fore He was a TV st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2781360"/>
            <a:ext cx="612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er of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ed for state basketball in 1973 and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d national living treasure in 1997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76960" y="189000"/>
            <a:ext cx="1967040" cy="324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28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9640" y="476280"/>
            <a:ext cx="777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ll known for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98900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3240360" cy="277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47242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 outdo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16720" y="299736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7280" y="5300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red in the movie crocodile Dund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780000" y="2276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4000" y="465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takes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8000" y="260280"/>
            <a:ext cx="525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ccccff">
                        <a:alpha val="50196"/>
                      </a:srgbClr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ward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ccccff">
                      <a:alpha val="50196"/>
                    </a:srgbClr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Kate Ceberano and Ernie Dingo on the red carpet at the 2007 TV Week Logies."/>
          <p:cNvPicPr/>
          <p:nvPr/>
        </p:nvPicPr>
        <p:blipFill>
          <a:blip r:embed="rId1"/>
          <a:stretch/>
        </p:blipFill>
        <p:spPr>
          <a:xfrm>
            <a:off x="1835280" y="2276640"/>
            <a:ext cx="5473440" cy="350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58053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e Ceberano and Ernie Dingo on red carpet 200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ted in 2007 for TV week award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29920" y="407160"/>
            <a:ext cx="487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y Pearce                   Jack Thomps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l Gibs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grid Thort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http://www.thecinemasource.com/celebrity/interviews/Guy-Pearce-Factory-Guy-interview-441-0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9000"/>
            <a:ext cx="1562040" cy="2187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411280" y="189000"/>
            <a:ext cx="5112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00">
                        <a:alpha val="50196"/>
                      </a:srgbClr>
                    </a:gs>
                    <a:gs pos="100000">
                      <a:srgbClr val="33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 admir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00">
                      <a:alpha val="50196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" descr="http://jksays.wordpress.com/2007/09/19/jack-thompson-biggest-idiot-ever/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125360"/>
            <a:ext cx="2808360" cy="1919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http://www.movieactors.com/80stars/mel.ht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645000"/>
            <a:ext cx="18144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http://www.abc.net.au/tasmania/stories/s1006578.ht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35280" y="3429000"/>
            <a:ext cx="1724040" cy="2660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0"/>
            <a:ext cx="896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cc99ff">
                        <a:alpha val="50196"/>
                      </a:srgbClr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ictures of Ernie achievement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cc99ff">
                      <a:alpha val="50196"/>
                    </a:srgbClr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8920" y="404820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182556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020000" y="1268280"/>
            <a:ext cx="1909800" cy="265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340000" y="1125360"/>
            <a:ext cx="44179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1:58:00Z</dcterms:created>
  <dc:creator>Reservoir District Secondary College</dc:creator>
  <dc:description/>
  <dc:language>en-US</dc:language>
  <cp:lastModifiedBy>Reservoir District Secondary College</cp:lastModifiedBy>
  <dcterms:modified xsi:type="dcterms:W3CDTF">2008-07-18T03:12:09Z</dcterms:modified>
  <cp:revision>29</cp:revision>
  <dc:subject/>
  <dc:title>Slide 1</dc:title>
</cp:coreProperties>
</file>